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D97C-664E-4A2F-81CE-7295549B46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CE5C-94A8-4C79-9A21-455C29D0F4FF}" type="slidenum">
              <a:rPr b="0" lang="ru-RU" sz="1200" spc="-1" strike="noStrike">
                <a:solidFill>
                  <a:srgbClr val="9537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B40-1E53-4B78-A28D-476AC006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267-4071-4B09-A3C0-F8D627C3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9BA-6423-4938-938D-08064540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656-5AF6-4DB5-A292-51ABBE89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B9F-A7A3-442E-BD4D-91B122EE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143-8CE9-46B3-8841-7FF4E7A1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664-902F-47A7-B874-E2F81F3E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AEE-18F0-4BFD-8FFB-8650120A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930-ADAE-4743-B40E-64712F9D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FEE-BFC7-4CCD-8322-78A1929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6CE-32D1-4BC0-9CEB-5D020516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D3D-C97D-44FA-9AEA-F148C32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5373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5373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5373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5373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5373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7908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58BE-494A-45FC-B05F-CA5016B3A707}" type="datetime">
              <a:rPr b="0" lang="ru-RU" sz="1200" spc="-1" strike="noStrike">
                <a:solidFill>
                  <a:srgbClr val="b7908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7908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7908f"/>
                </a:solidFill>
                <a:latin typeface="Calibri"/>
              </a:rPr>
              <a:t>©Филиппов Н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7908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10B4-527D-4F05-A9E7-012B6A847322}" type="slidenum">
              <a:rPr b="0" lang="ru-RU" sz="1200" spc="-1" strike="noStrike">
                <a:solidFill>
                  <a:srgbClr val="b7908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2706840" y="3236760"/>
            <a:ext cx="6613200" cy="1627200"/>
          </a:xfrm>
          <a:prstGeom prst="rect">
            <a:avLst/>
          </a:prstGeom>
          <a:ln w="0">
            <a:noFill/>
          </a:ln>
        </p:spPr>
      </p:pic>
      <p:sp>
        <p:nvSpPr>
          <p:cNvPr id="49" name="Нижний колонтитул 8"/>
          <p:cNvSpPr/>
          <p:nvPr/>
        </p:nvSpPr>
        <p:spPr>
          <a:xfrm>
            <a:off x="0" y="6356520"/>
            <a:ext cx="91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2073240" y="-6480"/>
            <a:ext cx="6875640" cy="1182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214720" y="157176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eece1"/>
                </a:solidFill>
                <a:latin typeface="Calibri"/>
              </a:rPr>
              <a:t>Болеет ли компьютер?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3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2206800" y="-6480"/>
            <a:ext cx="6613200" cy="11829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2214720" y="1571760"/>
            <a:ext cx="657216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Данный проект реализуется в рамках учебного предмета информатика и ориентирован на учащихся 10, 11 классов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Проектная деятельность направлена на исследование  темы «Информационная безопасность»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Учащиеся находят ответы на проблемные вопросы в процессе исследовательской деятельности, обобщая и систематизируя знания о возможных угрозах информационной безопасности, о методах  и средствах ее защиты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Опираясь на источники информации, дидактические материалы учащиеся производят анализ и делают необходимые выводы, излагая их в своих работах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57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2206800" y="-189000"/>
            <a:ext cx="6613200" cy="15001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214720" y="157176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Приобретение навыков самостоятельной работы   по поиску и систематизации информации по заданной теме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609480" indent="-609480"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Формирование умений проводить исследовательскую работу по изучению вопроса       « От чего и как защитить информацию?»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609480" indent="-609480"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Формирование навыков работы в группе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1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2206800" y="-6480"/>
            <a:ext cx="6613200" cy="11829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214720" y="1571760"/>
            <a:ext cx="657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Систематизировать и закрепить знания учащихся об основных способах защиты информации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609480" indent="-609480"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Ознакомление учащихся с документами, определяющими права на компьютерную информацию, и нормативными актами, охраняющими данные права, уголовной ответственностью за компьютерные преступления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Закрепить умение кратко излагать свои мысли устно и письменно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Научить проводить самостоятельные исследования и обрабатывать их результаты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5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2"/>
          <a:stretch/>
        </p:blipFill>
        <p:spPr>
          <a:xfrm>
            <a:off x="2206800" y="-6480"/>
            <a:ext cx="6613200" cy="11829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8" name="Прямоугольник с двумя вырезанными противолежащими углами 4"/>
          <p:cNvSpPr/>
          <p:nvPr/>
        </p:nvSpPr>
        <p:spPr>
          <a:xfrm>
            <a:off x="4071960" y="1428840"/>
            <a:ext cx="2428920" cy="785880"/>
          </a:xfrm>
          <a:prstGeom prst="pie">
            <a:avLst/>
          </a:prstGeom>
          <a:solidFill>
            <a:srgbClr val="f79646">
              <a:alpha val="25000"/>
            </a:srgbClr>
          </a:solidFill>
          <a:ln w="19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Болеет ли компьютер?</a:t>
            </a:r>
            <a:endParaRPr b="0" lang="en-US" sz="16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69" name="Прямоугольник с двумя вырезанными противолежащими углами 8"/>
          <p:cNvSpPr/>
          <p:nvPr/>
        </p:nvSpPr>
        <p:spPr>
          <a:xfrm>
            <a:off x="1928880" y="2643120"/>
            <a:ext cx="2428920" cy="785880"/>
          </a:xfrm>
          <a:prstGeom prst="pie">
            <a:avLst/>
          </a:prstGeom>
          <a:solidFill>
            <a:srgbClr val="4bacc6">
              <a:alpha val="25000"/>
            </a:srgbClr>
          </a:solidFill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Какие болячки есть у компьютера?</a:t>
            </a:r>
            <a:endParaRPr b="0" lang="en-US" sz="16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70" name="Прямоугольник с двумя вырезанными противолежащими углами 9"/>
          <p:cNvSpPr/>
          <p:nvPr/>
        </p:nvSpPr>
        <p:spPr>
          <a:xfrm>
            <a:off x="6286680" y="2643120"/>
            <a:ext cx="2428560" cy="785880"/>
          </a:xfrm>
          <a:prstGeom prst="pie">
            <a:avLst/>
          </a:prstGeom>
          <a:solidFill>
            <a:srgbClr val="4bacc6">
              <a:alpha val="25000"/>
            </a:srgbClr>
          </a:solidFill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Какие таблетки принимать?</a:t>
            </a:r>
            <a:endParaRPr b="0" lang="en-US" sz="16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71" name="Прямоугольник с двумя вырезанными противолежащими углами 10"/>
          <p:cNvSpPr/>
          <p:nvPr/>
        </p:nvSpPr>
        <p:spPr>
          <a:xfrm>
            <a:off x="4071960" y="3857760"/>
            <a:ext cx="2428920" cy="785520"/>
          </a:xfrm>
          <a:prstGeom prst="pie">
            <a:avLst/>
          </a:prstGeom>
          <a:solidFill>
            <a:srgbClr val="4bacc6">
              <a:alpha val="25000"/>
            </a:srgbClr>
          </a:solidFill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Как отбиться от заразы?</a:t>
            </a:r>
            <a:endParaRPr b="0" lang="en-US" sz="1600" spc="-1" strike="noStrike">
              <a:solidFill>
                <a:srgbClr val="953734"/>
              </a:solidFill>
              <a:latin typeface="Calibri"/>
            </a:endParaRPr>
          </a:p>
        </p:txBody>
      </p:sp>
      <p:grpSp>
        <p:nvGrpSpPr>
          <p:cNvPr id="72" name="Группа 21"/>
          <p:cNvGrpSpPr/>
          <p:nvPr/>
        </p:nvGrpSpPr>
        <p:grpSpPr>
          <a:xfrm>
            <a:off x="3071520" y="1785600"/>
            <a:ext cx="1000440" cy="857520"/>
            <a:chOff x="3071520" y="1785600"/>
            <a:chExt cx="1000440" cy="857520"/>
          </a:xfrm>
        </p:grpSpPr>
        <p:sp>
          <p:nvSpPr>
            <p:cNvPr id="73" name="Прямая соединительная линия 17"/>
            <p:cNvSpPr/>
            <p:nvPr/>
          </p:nvSpPr>
          <p:spPr>
            <a:xfrm flipH="1">
              <a:off x="3071880" y="1785960"/>
              <a:ext cx="1000080" cy="0"/>
            </a:xfrm>
            <a:prstGeom prst="line">
              <a:avLst/>
            </a:prstGeom>
            <a:ln w="190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53734"/>
                </a:solidFill>
                <a:latin typeface="Calibri"/>
              </a:endParaRPr>
            </a:p>
          </p:txBody>
        </p:sp>
        <p:cxnSp>
          <p:nvCxnSpPr>
            <p:cNvPr id="74" name="Прямая со стрелкой 19"/>
            <p:cNvCxnSpPr/>
            <p:nvPr/>
          </p:nvCxnSpPr>
          <p:spPr>
            <a:xfrm flipH="1">
              <a:off x="3071520" y="1785600"/>
              <a:ext cx="2160" cy="857880"/>
            </a:xfrm>
            <a:prstGeom prst="straightConnector1">
              <a:avLst/>
            </a:prstGeom>
            <a:ln w="19080">
              <a:solidFill>
                <a:srgbClr val="4bacc6"/>
              </a:solidFill>
              <a:miter/>
              <a:tailEnd len="med" type="arrow" w="med"/>
            </a:ln>
          </p:spPr>
        </p:cxnSp>
      </p:grpSp>
      <p:grpSp>
        <p:nvGrpSpPr>
          <p:cNvPr id="75" name="Группа 22"/>
          <p:cNvGrpSpPr/>
          <p:nvPr/>
        </p:nvGrpSpPr>
        <p:grpSpPr>
          <a:xfrm>
            <a:off x="6500880" y="1785600"/>
            <a:ext cx="1000440" cy="857520"/>
            <a:chOff x="6500880" y="1785600"/>
            <a:chExt cx="1000440" cy="857520"/>
          </a:xfrm>
        </p:grpSpPr>
        <p:sp>
          <p:nvSpPr>
            <p:cNvPr id="76" name="Прямая соединительная линия 23"/>
            <p:cNvSpPr/>
            <p:nvPr/>
          </p:nvSpPr>
          <p:spPr>
            <a:xfrm>
              <a:off x="6500880" y="1785960"/>
              <a:ext cx="1000080" cy="0"/>
            </a:xfrm>
            <a:prstGeom prst="line">
              <a:avLst/>
            </a:prstGeom>
            <a:ln w="190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53734"/>
                </a:solidFill>
                <a:latin typeface="Calibri"/>
              </a:endParaRPr>
            </a:p>
          </p:txBody>
        </p:sp>
        <p:cxnSp>
          <p:nvCxnSpPr>
            <p:cNvPr id="77" name="Прямая со стрелкой 24"/>
            <p:cNvCxnSpPr/>
            <p:nvPr/>
          </p:nvCxnSpPr>
          <p:spPr>
            <a:xfrm>
              <a:off x="7499520" y="1785600"/>
              <a:ext cx="2160" cy="857880"/>
            </a:xfrm>
            <a:prstGeom prst="straightConnector1">
              <a:avLst/>
            </a:prstGeom>
            <a:ln w="19080">
              <a:solidFill>
                <a:srgbClr val="4bacc6"/>
              </a:solidFill>
              <a:miter/>
              <a:tailEnd len="med" type="arrow" w="med"/>
            </a:ln>
          </p:spPr>
        </p:cxnSp>
      </p:grpSp>
      <p:cxnSp>
        <p:nvCxnSpPr>
          <p:cNvPr id="78" name="Прямая со стрелкой 27"/>
          <p:cNvCxnSpPr>
            <a:stCxn id="68" idx="4"/>
            <a:endCxn id="71" idx="4"/>
          </p:cNvCxnSpPr>
          <p:nvPr/>
        </p:nvCxnSpPr>
        <p:spPr>
          <a:xfrm flipH="1">
            <a:off x="5285520" y="2214720"/>
            <a:ext cx="2520" cy="164520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79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2"/>
          <a:stretch/>
        </p:blipFill>
        <p:spPr>
          <a:xfrm>
            <a:off x="2036880" y="-189000"/>
            <a:ext cx="701496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2143080" y="157176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Буклет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Презентация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83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2206800" y="-189000"/>
            <a:ext cx="6613200" cy="15001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5"/>
          <p:cNvSpPr/>
          <p:nvPr/>
        </p:nvSpPr>
        <p:spPr>
          <a:xfrm>
            <a:off x="1928880" y="1143000"/>
            <a:ext cx="700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2143080" y="1571760"/>
            <a:ext cx="65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eeece1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Знакомство с проектом, выбор темы исследования. Сбор информации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514440" indent="-514440">
              <a:buClr>
                <a:srgbClr val="eeece1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Защита презентаций и буклетов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514440" indent="-514440">
              <a:buClr>
                <a:srgbClr val="eeece1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Повторение пройденного материала 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  <a:p>
            <a:pPr marL="514440" indent="-514440">
              <a:buClr>
                <a:srgbClr val="eeece1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Защита работ.</a:t>
            </a:r>
            <a:endParaRPr b="0" lang="en-US" sz="2400" spc="-1" strike="noStrike">
              <a:solidFill>
                <a:srgbClr val="953734"/>
              </a:solidFill>
              <a:latin typeface="Calibri"/>
            </a:endParaRPr>
          </a:p>
        </p:txBody>
      </p:sp>
      <p:sp>
        <p:nvSpPr>
          <p:cNvPr id="87" name="Нижний колонтитул 8"/>
          <p:cNvSpPr/>
          <p:nvPr/>
        </p:nvSpPr>
        <p:spPr>
          <a:xfrm>
            <a:off x="0" y="635652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9537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8:03:36Z</dcterms:created>
  <dc:creator>Владелец</dc:creator>
  <dc:description/>
  <dc:language>en-US</dc:language>
  <cp:lastModifiedBy>Владелец</cp:lastModifiedBy>
  <dcterms:modified xsi:type="dcterms:W3CDTF">2010-05-30T10:16:33Z</dcterms:modified>
  <cp:revision>43</cp:revision>
  <dc:subject/>
  <dc:title>Слайд 1</dc:title>
</cp:coreProperties>
</file>